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cartoon1.wav" ContentType="audio/x-wav"/>
  <Override PartName="/ppt/media/image3.png" ContentType="image/png"/>
  <Override PartName="/ppt/media/banjo.wav" ContentType="audio/x-wav"/>
  <Override PartName="/ppt/media/yehaw.wav" ContentType="audio/x-wav"/>
  <Override PartName="/ppt/media/image5.jpeg" ContentType="image/jpeg"/>
  <Override PartName="/ppt/media/yahoo.wav" ContentType="audio/x-wav"/>
  <Override PartName="/ppt/media/boop2.wav" ContentType="audio/x-wav"/>
  <Override PartName="/ppt/media/excllnt.wav" ContentType="audio/x-wav"/>
  <Override PartName="/ppt/media/doh.wav" ContentType="audio/x-wav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150-A60D-4876-97AC-03E7B564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C6A-F3A8-4409-993C-8E6C8816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C14-BD6A-424F-858C-8E7FB27F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F30-C404-47A4-A614-72CB8AC0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E104-50CF-4F06-A3B1-A4C24B02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D035-789D-422E-AA7C-F50979B2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0BFC-8C36-4092-8BE1-1270B04F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6744-A046-4AB4-AE9E-C051328E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6EC2-44FB-49B7-8A28-C6305904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EB9B-45C3-4C7E-B651-B1B2B899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EA74-EEDA-4F7D-B14B-386B68ED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04D-6BEB-44DB-BFBE-B59C5B4B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0548-29C4-4387-9571-77FAD680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1E4F-ACE0-4D2D-97D4-7609CD93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4B22-DD67-4749-AD2E-D86B29A1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38E1-CF3D-46F4-B471-D6E09F28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A9BF-9EE6-453B-9342-224D256A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47E-A30C-412F-B190-73E489DD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BAC-3FCD-4C34-8799-4F1D13B3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F46-2F26-4D98-B3E8-361FE121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906-DDF1-4B06-AA02-3AEBDCA2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CE1-D63B-4D0B-AE54-29EEE92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572-C89B-4438-8EC3-CCD75DBC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8FE-2FA3-480A-BFAF-88F3FCB0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6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6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6041-853D-486E-8944-CD54B758F2A1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57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8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59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6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351B-1E43-42F4-BF5C-35312B817737}" type="slidenum"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anjo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doh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yehaw.wav"/><Relationship Id="rId3" Type="http://schemas.openxmlformats.org/officeDocument/2006/relationships/audio" Target="../media/yahoo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do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do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doh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cartoon1.wav"/><Relationship Id="rId4" Type="http://schemas.openxmlformats.org/officeDocument/2006/relationships/audio" Target="../media/boop2.wav"/><Relationship Id="rId5" Type="http://schemas.openxmlformats.org/officeDocument/2006/relationships/audio" Target="../media/excllnt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e9"/>
                </a:solidFill>
                <a:latin typeface="Playbill"/>
              </a:rPr>
              <a:t>SALOON SNAP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nj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332000" y="1790640"/>
            <a:ext cx="3024000" cy="466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If a packet of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Jelly Beans contain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j beans, and they are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to be divided up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between 4 people,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the number of bean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each person receives is: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3" name="Rectangle 4" descr="Parchment"/>
          <p:cNvPicPr/>
          <p:nvPr/>
        </p:nvPicPr>
        <p:blipFill>
          <a:blip r:embed="rId2"/>
          <a:stretch/>
        </p:blipFill>
        <p:spPr>
          <a:xfrm>
            <a:off x="5102280" y="2359080"/>
            <a:ext cx="2146320" cy="306072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45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6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476360" y="2349360"/>
            <a:ext cx="2421000" cy="3048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If x=2 and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y=-1, then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3xy=?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264c"/>
                </a:solidFill>
                <a:latin typeface="Playbill"/>
              </a:rPr>
              <a:t>-6</a:t>
            </a:r>
            <a:endParaRPr b="0" lang="en-US" sz="9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51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75248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If a=4 and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b=-3, then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a</a:t>
            </a:r>
            <a:r>
              <a:rPr b="0" lang="en-GB" sz="4000" spc="-1" strike="noStrike" baseline="30000">
                <a:solidFill>
                  <a:srgbClr val="00264c"/>
                </a:solidFill>
                <a:latin typeface="Playbill"/>
              </a:rPr>
              <a:t>2</a:t>
            </a: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 – b</a:t>
            </a:r>
            <a:r>
              <a:rPr b="0" lang="en-GB" sz="4000" spc="-1" strike="noStrike" baseline="30000">
                <a:solidFill>
                  <a:srgbClr val="00264c"/>
                </a:solidFill>
                <a:latin typeface="Playbill"/>
              </a:rPr>
              <a:t>2</a:t>
            </a:r>
            <a:r>
              <a:rPr b="0" lang="en-GB" sz="4000" spc="-1" strike="noStrike">
                <a:solidFill>
                  <a:srgbClr val="00264c"/>
                </a:solidFill>
                <a:latin typeface="Playbill"/>
              </a:rPr>
              <a:t> =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264c"/>
                </a:solidFill>
                <a:latin typeface="Playbill"/>
              </a:rPr>
              <a:t>x=25</a:t>
            </a:r>
            <a:endParaRPr b="0" lang="en-US" sz="9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7391160" y="5181480"/>
            <a:ext cx="1067040" cy="1067040"/>
            <a:chOff x="7391160" y="5181480"/>
            <a:chExt cx="1067040" cy="1067040"/>
          </a:xfrm>
        </p:grpSpPr>
        <p:sp>
          <p:nvSpPr>
            <p:cNvPr id="157" name="Line 9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8" name="Line 10"/>
            <p:cNvSpPr/>
            <p:nvPr/>
          </p:nvSpPr>
          <p:spPr>
            <a:xfrm flipH="1" flipV="1">
              <a:off x="739116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80960" y="2637000"/>
            <a:ext cx="4102200" cy="20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264c"/>
                </a:solidFill>
                <a:latin typeface="Playbill"/>
              </a:rPr>
              <a:t>17cd+3r–9cd+6r</a:t>
            </a: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=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5105520" y="2637000"/>
            <a:ext cx="2819160" cy="20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264c"/>
                </a:solidFill>
                <a:latin typeface="Playbill"/>
              </a:rPr>
              <a:t>8cd+9r</a:t>
            </a:r>
            <a:endParaRPr b="0" lang="en-US" sz="9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63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350496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Say </a:t>
            </a: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     </a:t>
            </a: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  if the following are true!</a:t>
            </a:r>
            <a:endParaRPr b="0" lang="en-US" sz="5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Picture 5" descr="pe00505_"/>
          <p:cNvPicPr/>
          <p:nvPr/>
        </p:nvPicPr>
        <p:blipFill>
          <a:blip r:embed="rId1"/>
          <a:stretch/>
        </p:blipFill>
        <p:spPr>
          <a:xfrm>
            <a:off x="2743200" y="457200"/>
            <a:ext cx="3516480" cy="2981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280960" y="3276720"/>
            <a:ext cx="27075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00ff00"/>
                </a:solidFill>
                <a:latin typeface="Playbill"/>
              </a:rPr>
              <a:t>YEHAW</a:t>
            </a:r>
            <a:endParaRPr b="0" lang="en-US" sz="5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828800" y="51814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Say </a:t>
            </a: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     </a:t>
            </a:r>
            <a:r>
              <a:rPr b="0" lang="en-GB" sz="5800" spc="-1" strike="noStrike">
                <a:solidFill>
                  <a:srgbClr val="333333"/>
                </a:solidFill>
                <a:latin typeface="Playbill"/>
              </a:rPr>
              <a:t>  if they are not!</a:t>
            </a:r>
            <a:endParaRPr b="0" lang="en-US" sz="5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970280" y="5334120"/>
            <a:ext cx="2762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5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eha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ah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8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8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8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Rectangle 1028"/>
          <p:cNvSpPr/>
          <p:nvPr/>
        </p:nvSpPr>
        <p:spPr>
          <a:xfrm>
            <a:off x="176364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The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coefficient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of 7a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Rectangle 1029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264c"/>
                </a:solidFill>
                <a:latin typeface="Playbill"/>
              </a:rPr>
              <a:t>7</a:t>
            </a:r>
            <a:endParaRPr b="0" lang="en-US" sz="9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2" name="Group 1032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03" name="Line 1030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4" name="Line 1031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75248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A number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2 more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264c"/>
                </a:solidFill>
                <a:latin typeface="Playbill"/>
              </a:rPr>
              <a:t>Than p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264c"/>
                </a:solidFill>
                <a:latin typeface="Playbill"/>
              </a:rPr>
              <a:t>2p</a:t>
            </a:r>
            <a:endParaRPr b="0" lang="en-US" sz="9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8" name="Group 9"/>
          <p:cNvGrpSpPr/>
          <p:nvPr/>
        </p:nvGrpSpPr>
        <p:grpSpPr>
          <a:xfrm>
            <a:off x="7391160" y="5181480"/>
            <a:ext cx="1067040" cy="1067040"/>
            <a:chOff x="7391160" y="5181480"/>
            <a:chExt cx="1067040" cy="1067040"/>
          </a:xfrm>
        </p:grpSpPr>
        <p:sp>
          <p:nvSpPr>
            <p:cNvPr id="109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H="1" flipV="1">
              <a:off x="739116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75248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264c"/>
                </a:solidFill>
                <a:latin typeface="Playbill"/>
              </a:rPr>
              <a:t>2 is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264c"/>
                </a:solidFill>
                <a:latin typeface="Playbill"/>
              </a:rPr>
              <a:t>added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264c"/>
                </a:solidFill>
                <a:latin typeface="Playbill"/>
              </a:rPr>
              <a:t>to 3 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264c"/>
                </a:solidFill>
                <a:latin typeface="Playbill"/>
              </a:rPr>
              <a:t>times p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264c"/>
                </a:solidFill>
                <a:latin typeface="Playbill"/>
              </a:rPr>
              <a:t>3p + 2</a:t>
            </a:r>
            <a:endParaRPr b="0" lang="en-US" sz="72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15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5248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4 times p 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is subtracted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from 10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105520" y="23623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264c"/>
                </a:solidFill>
                <a:latin typeface="Playbill"/>
              </a:rPr>
              <a:t>4p - 10</a:t>
            </a:r>
            <a:endParaRPr b="0" lang="en-US" sz="66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7391160" y="5181480"/>
            <a:ext cx="1067040" cy="1067040"/>
            <a:chOff x="7391160" y="5181480"/>
            <a:chExt cx="1067040" cy="1067040"/>
          </a:xfrm>
        </p:grpSpPr>
        <p:sp>
          <p:nvSpPr>
            <p:cNvPr id="121" name="Line 6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2" name="Line 7"/>
            <p:cNvSpPr/>
            <p:nvPr/>
          </p:nvSpPr>
          <p:spPr>
            <a:xfrm flipH="1" flipV="1">
              <a:off x="739116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752480" y="2362320"/>
            <a:ext cx="245916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264c"/>
                </a:solidFill>
                <a:latin typeface="Playbill"/>
              </a:rPr>
              <a:t>2p+3q</a:t>
            </a:r>
            <a:endParaRPr b="0" lang="en-US" sz="8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105520" y="2362320"/>
            <a:ext cx="249084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The sum of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2 times p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5400" spc="-1" strike="noStrike">
                <a:solidFill>
                  <a:srgbClr val="00264c"/>
                </a:solidFill>
                <a:latin typeface="Playbill"/>
              </a:rPr>
              <a:t>&amp; 3 times q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27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752480" y="2362320"/>
            <a:ext cx="213372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3(p+q)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146560" y="2362320"/>
            <a:ext cx="213372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The product of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3 and p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is added to q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2" name="Group 5"/>
          <p:cNvGrpSpPr/>
          <p:nvPr/>
        </p:nvGrpSpPr>
        <p:grpSpPr>
          <a:xfrm>
            <a:off x="7391160" y="5181480"/>
            <a:ext cx="1067040" cy="1067040"/>
            <a:chOff x="7391160" y="5181480"/>
            <a:chExt cx="1067040" cy="1067040"/>
          </a:xfrm>
        </p:grpSpPr>
        <p:sp>
          <p:nvSpPr>
            <p:cNvPr id="133" name="Line 6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 flipH="1" flipV="1">
              <a:off x="739116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YEHAW </a:t>
            </a:r>
            <a:r>
              <a:rPr b="0" lang="en-GB" sz="8000" spc="-1" strike="noStrike">
                <a:solidFill>
                  <a:srgbClr val="00264c"/>
                </a:solidFill>
                <a:latin typeface="Playbill"/>
              </a:rPr>
              <a:t>or</a:t>
            </a:r>
            <a:r>
              <a:rPr b="0" lang="en-GB" sz="8000" spc="-1" strike="noStrike">
                <a:solidFill>
                  <a:srgbClr val="00ff00"/>
                </a:solidFill>
                <a:latin typeface="Playbill"/>
              </a:rPr>
              <a:t> </a:t>
            </a:r>
            <a:r>
              <a:rPr b="0" lang="en-GB" sz="8000" spc="-1" strike="noStrike">
                <a:solidFill>
                  <a:srgbClr val="ff0000"/>
                </a:solidFill>
                <a:latin typeface="Playbill"/>
              </a:rPr>
              <a:t>YAHOO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971640" y="2362320"/>
            <a:ext cx="3313080" cy="3047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264c"/>
                </a:solidFill>
                <a:latin typeface="Playbill"/>
              </a:rPr>
              <a:t>pronumeral</a:t>
            </a:r>
            <a:endParaRPr b="0" lang="en-US" sz="8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076720" y="2349360"/>
            <a:ext cx="2133720" cy="3048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letter tha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 </a:t>
            </a: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replaces a 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64c"/>
                </a:solidFill>
                <a:latin typeface="Playbill"/>
              </a:rPr>
              <a:t>number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6858000" y="5181480"/>
            <a:ext cx="1600200" cy="1067040"/>
            <a:chOff x="6858000" y="5181480"/>
            <a:chExt cx="1600200" cy="1067040"/>
          </a:xfrm>
        </p:grpSpPr>
        <p:sp>
          <p:nvSpPr>
            <p:cNvPr id="139" name="Line 6"/>
            <p:cNvSpPr/>
            <p:nvPr/>
          </p:nvSpPr>
          <p:spPr>
            <a:xfrm>
              <a:off x="6858000" y="5715000"/>
              <a:ext cx="533520" cy="53352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0" name="Line 7"/>
            <p:cNvSpPr/>
            <p:nvPr/>
          </p:nvSpPr>
          <p:spPr>
            <a:xfrm flipV="1">
              <a:off x="7391520" y="5181480"/>
              <a:ext cx="1066680" cy="1067040"/>
            </a:xfrm>
            <a:prstGeom prst="line">
              <a:avLst/>
            </a:prstGeom>
            <a:ln w="111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to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op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c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6T17:32:49Z</dcterms:created>
  <dc:creator>Suzanne Duxbury</dc:creator>
  <dc:description/>
  <dc:language>en-US</dc:language>
  <cp:lastModifiedBy>Petra P. WITT</cp:lastModifiedBy>
  <dcterms:modified xsi:type="dcterms:W3CDTF">2012-02-05T05:48:21Z</dcterms:modified>
  <cp:revision>35</cp:revision>
  <dc:subject/>
  <dc:title>SALOON SNAP</dc:title>
</cp:coreProperties>
</file>